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61E7-38A9-46EB-8C0C-21E70BF36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1D2B-571A-4AF0-B0F6-D835AA3AE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C66A-8D1D-42D4-89E3-CAC695F2C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35ED-ADC1-4433-85B7-8F9D06D044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7501-5122-4E8B-A6FE-7B64B5ED1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9728-7118-4438-A4CF-709F64C54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2B00-DF28-4F9B-BAAD-F40110567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2EE5-6E96-496F-99A6-2BAC01185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56F2-25A7-4614-8898-070076C88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9437-D564-44AA-9EEF-9F71356FA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365C-322E-456E-940A-CE44353F3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E409-7283-4BCD-81C9-B879B874D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5DA7-53C0-46E5-8002-5AD3A8DA02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75C4-E0B1-47E0-86F9-C062A7883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Breakou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empenf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2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23D-20BD-43EB-A11E-A14D53795A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F594-BF22-4CE4-9BBC-1BB9D187E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1EF-B7CD-428B-B757-9DB8469395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94E-B62B-42C0-A209-BC2D2697F5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768-F86F-4528-A4F1-4ADB1A7965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9C95-F437-40FC-990A-9FA128928E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Breakout #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FAB-CFD8-4D31-A295-1E85B606D5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DC83-DAB4-4DF7-BCCB-B76A3DAEA2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Breakout #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F97-D143-408D-BF20-45FBB82585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9599-82EC-4BF0-BFF7-159325F541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hink/Pair/Shar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DC37-24DF-4185-8E70-C6611C5B2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elf Assessment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C72-9075-4CC0-A22A-2EC9E0973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0" y="11430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9600" y="1218960"/>
            <a:ext cx="6224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085C-2614-4677-8EF5-6307758231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148-623A-43C8-AC29-E28550F5C3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BC74-64CC-4492-B9C2-C3AFF33034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1DD-D77B-4D56-B4C2-3E5B5F7B7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1T00:12:44Z</dcterms:modified>
  <cp:revision>25</cp:revision>
  <dc:subject/>
  <dc:title>&lt;Title&gt;</dc:title>
</cp:coreProperties>
</file>